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B9B9-B3F4-4047-B0E1-3CB9CA9D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9A55-202E-4C4E-BDAA-493C74E4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262C-A978-4C1D-86A7-A984C7BB7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D147-B53E-429E-9093-B8CF51BBA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6E21-FA45-446F-9191-F6EA30D6F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4494-C956-4FC8-B44B-CB5B5A46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D8CC-C093-4F9C-9C18-1F360F1E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1ED3-0A6D-42E7-B03E-D3BBFBB8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769E-D444-4309-B236-81343351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E571-1757-4AEB-848F-1B066A40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5335-66CA-4B56-8ADD-6CBD3B06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21DB-28E5-4088-AB93-A3E646A8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A86A-E14E-49D2-BEB6-39858E35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6597-16C2-4108-B65F-4A9D6DFB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B6CE-6CFE-497E-A600-7A01EFDE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AC7B-AAF2-48CA-A9C0-81A85675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040D-7227-4ED0-B98E-2CAF73E0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E4CA-C24C-4B52-A7E2-D48BA1B8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DE17-4E2B-45F9-9B38-64444C2F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E9A9-5EE4-45E1-A467-FE16D87A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9764-F5A1-41C9-BA18-E1DAAC8C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EEBA-8613-4EF2-8BD2-683BE0CC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2223-12FC-4DE2-A597-B32D8CC3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C8B2-206A-4D1B-B098-5AAD0B4E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136A-55F6-49CF-93C4-02A18CF04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0CA2-E544-43FC-8D53-298E0DDE2500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Фототерап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ња Зечевић Лукови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Индикације</a:t>
            </a:r>
            <a:r>
              <a:rPr b="1" lang="en-GB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за</a:t>
            </a:r>
            <a:r>
              <a:rPr b="1" lang="en-GB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ИР</a:t>
            </a:r>
            <a:r>
              <a:rPr b="1" lang="en-GB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осттрауматск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тања:повред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меких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ткив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осл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најмање 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48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часов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миалгиј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неуралгије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лезије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МН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ванзглобн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реуматизам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дегенеративн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реуматизам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фурункулоз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гљивична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обољења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вод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ЕС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Г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ЕФ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тракције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КТХ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болов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осл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екстракциј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уба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фронталн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максиларн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инуситис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Контраиндикације</a:t>
            </a:r>
            <a:r>
              <a:rPr b="1" lang="en-GB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за</a:t>
            </a:r>
            <a:r>
              <a:rPr b="1" lang="en-GB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ИР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акутн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фебрилн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тањ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акутн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апаљењ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кож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глобов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клоност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к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крварењу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малигн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роцес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оклузивн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артеријск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обољењ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France YU"/>
                <a:ea typeface="Times New Roman"/>
              </a:rPr>
              <a:t>анестезија</a:t>
            </a:r>
            <a:r>
              <a:rPr b="0" lang="en-GB" sz="2800" spc="-1" strike="noStrike">
                <a:solidFill>
                  <a:srgbClr val="ff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France YU"/>
                <a:ea typeface="Times New Roman"/>
              </a:rPr>
              <a:t>коже</a:t>
            </a:r>
            <a:r>
              <a:rPr b="0" lang="en-GB" sz="2800" spc="-1" strike="noStrike">
                <a:solidFill>
                  <a:srgbClr val="ff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France YU"/>
                <a:ea typeface="Times New Roman"/>
              </a:rPr>
              <a:t>на</a:t>
            </a:r>
            <a:r>
              <a:rPr b="0" lang="en-GB" sz="2800" spc="-1" strike="noStrike">
                <a:solidFill>
                  <a:srgbClr val="ff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France YU"/>
                <a:ea typeface="Times New Roman"/>
              </a:rPr>
              <a:t>термичке</a:t>
            </a:r>
            <a:r>
              <a:rPr b="0" lang="en-GB" sz="2800" spc="-1" strike="noStrike">
                <a:solidFill>
                  <a:srgbClr val="ff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France YU"/>
                <a:ea typeface="Times New Roman"/>
              </a:rPr>
              <a:t>дражи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декомпензација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виталних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органа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France YU"/>
                <a:ea typeface="Times New Roman"/>
              </a:rPr>
              <a:t>екцем</a:t>
            </a:r>
            <a:r>
              <a:rPr b="0" lang="sr-Latn-CS" sz="2800" spc="-1" strike="noStrike">
                <a:solidFill>
                  <a:srgbClr val="ff0000"/>
                </a:solidFill>
                <a:latin typeface="France YU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0000"/>
                </a:solidFill>
                <a:latin typeface="France YU"/>
                <a:ea typeface="Times New Roman"/>
              </a:rPr>
              <a:t>дерматитис</a:t>
            </a:r>
            <a:r>
              <a:rPr b="0" lang="sr-Latn-CS" sz="2800" spc="-1" strike="noStrike">
                <a:solidFill>
                  <a:srgbClr val="ff0000"/>
                </a:solidFill>
                <a:latin typeface="France YU"/>
                <a:ea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Инфрацрвена</a:t>
            </a:r>
            <a:r>
              <a:rPr b="0" lang="en-U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фотограф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ат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рац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смере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ж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казу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венск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исте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артеријс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в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удов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ид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рис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јагностик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нск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циркула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леч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жлезда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циркула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гравидитет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тпартал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нск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циркула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рт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хипертензије</a:t>
            </a:r>
            <a:r>
              <a:rPr b="0" lang="en-U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Термограф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рмограф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фотографск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гистровањ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мператур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ж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рмогра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казу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њ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циркулаци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жн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мотач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лика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њ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артеријски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вни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удо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то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в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рмовиз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атк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емен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ик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стрибуци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мператур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ћ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врши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ХЕЛИОТЕРАПИЈА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смичк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рац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ржавају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јоносфер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о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X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рац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зонск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уп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гу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пустит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штетн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рак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60%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3-5%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В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Осетљивост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на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Сунчеве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зрак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калн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етљив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ж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груд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леђ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флексорн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ран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кстремите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дивидуалн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етљивост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ј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чи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и,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зраст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гиј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једини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ољењ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лбино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..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Ефекат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еловања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Сунц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бљин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здушног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ој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лажност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здух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ш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б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н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дишњег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б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дморск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исин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лачност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гађеност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здух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Светлосни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надража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"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ветлосн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дражај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“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( Holl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w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c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стај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еко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чул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ид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тичким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утевим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енос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зенцефало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м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кундарно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ловањ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хипофиз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јачано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лучивањ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сули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диц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ректног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јст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дговоран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шт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онус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гетативн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функциј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рганизм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5497560" cy="54100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6"/>
          <p:cNvSpPr/>
          <p:nvPr/>
        </p:nvSpPr>
        <p:spPr>
          <a:xfrm>
            <a:off x="1771200" y="328680"/>
            <a:ext cx="541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Шем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сунчањ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Rollier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Индикације</a:t>
            </a:r>
            <a:r>
              <a:rPr b="1" lang="sr-Latn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за</a:t>
            </a:r>
            <a:r>
              <a:rPr b="1" lang="sr-Latn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хелиотерапију</a:t>
            </a:r>
            <a:r>
              <a:rPr b="1" lang="sr-Latn-CS" sz="4400" spc="-1" strike="noStrike">
                <a:solidFill>
                  <a:srgbClr val="3333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лезиј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иферног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торног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урон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генеративн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уматск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ољењ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псориасис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вулгарис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екцем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рахитис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хипохромн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анемиј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фекциј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спираторних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утев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конвалесценциј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БЦ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стију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гетативн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ремећај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en-GB" sz="5400" spc="-1" strike="noStrike">
                <a:solidFill>
                  <a:srgbClr val="333399"/>
                </a:solidFill>
                <a:latin typeface="Times New Roman YU"/>
                <a:ea typeface="Times New Roman"/>
              </a:rPr>
              <a:t> </a:t>
            </a:r>
            <a:r>
              <a:rPr b="1" lang="sr-CS" sz="5400" spc="-1" strike="noStrike">
                <a:solidFill>
                  <a:srgbClr val="333399"/>
                </a:solidFill>
                <a:latin typeface="France YU"/>
                <a:ea typeface="Times New Roman"/>
              </a:rPr>
              <a:t>Фототерапија</a:t>
            </a:r>
            <a:r>
              <a:rPr b="1" lang="sr-Latn-CS" sz="5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sr-CS" sz="5400" spc="-1" strike="noStrike">
                <a:solidFill>
                  <a:srgbClr val="333399"/>
                </a:solidFill>
                <a:latin typeface="Arial"/>
                <a:ea typeface="Times New Roman"/>
              </a:rPr>
              <a:t>подела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Хелиотерап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Хромотерап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ИЦ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зрац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В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зрац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ЛАСЕ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Биоптрон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“ЗЕПТЕР”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ламп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333399"/>
                </a:solidFill>
                <a:latin typeface="France YU"/>
                <a:ea typeface="Times New Roman"/>
              </a:rPr>
              <a:t>Контраиндикације</a:t>
            </a:r>
            <a:r>
              <a:rPr b="1" lang="sr-Latn-CS" sz="40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333399"/>
                </a:solidFill>
                <a:latin typeface="France YU"/>
                <a:ea typeface="Times New Roman"/>
              </a:rPr>
              <a:t>за</a:t>
            </a:r>
            <a:r>
              <a:rPr b="1" lang="sr-Latn-CS" sz="40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333399"/>
                </a:solidFill>
                <a:latin typeface="France YU"/>
                <a:ea typeface="Times New Roman"/>
              </a:rPr>
              <a:t>хелиотерапију</a:t>
            </a:r>
            <a:r>
              <a:rPr b="1" lang="sr-Latn-CS" sz="4000" spc="-1" strike="noStrike">
                <a:solidFill>
                  <a:srgbClr val="333399"/>
                </a:solidFill>
                <a:latin typeface="France YU"/>
                <a:ea typeface="Times New Roman"/>
              </a:rPr>
              <a:t>            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ктивн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ТБЦ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лућ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компензован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есници(срчан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лућни бубрежни.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фебрилн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њ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фективна обољењ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клоност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варењу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лигн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ољењ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њ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ЦВ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.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761760"/>
            <a:ext cx="7792920" cy="99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Хромотерапија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Примен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бој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бојењу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просторија</a:t>
            </a:r>
            <a:r>
              <a:rPr b="0" lang="sr-Latn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,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психијатрији</a:t>
            </a:r>
            <a:r>
              <a:rPr b="0" lang="sr-Latn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...</a:t>
            </a:r>
            <a:r>
              <a:rPr b="0" lang="en-US" sz="2800" spc="-1" strike="noStrike">
                <a:solidFill>
                  <a:srgbClr val="1c1c1c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плав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бој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обезбојавање</a:t>
            </a:r>
            <a:r>
              <a:rPr b="0" lang="sr-Latn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новорођенчади са жутицом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жут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бој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стимулативно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појачав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катаболизам</a:t>
            </a:r>
            <a:r>
              <a:rPr b="0" lang="sr-Latn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зелен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бој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умирујуће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појачав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анаболизам</a:t>
            </a:r>
            <a:r>
              <a:rPr b="0" lang="sr-Latn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црвен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наранџаст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надражајне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боје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љубичаст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успорав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ритам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дисања</a:t>
            </a:r>
            <a:r>
              <a:rPr b="0" lang="sr-Latn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али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продубљује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дисање и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повећав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вентилациону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способност</a:t>
            </a:r>
            <a:r>
              <a:rPr b="1" lang="en-GB" sz="28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333399"/>
                </a:solidFill>
                <a:latin typeface="Calibri"/>
              </a:rPr>
              <a:t>БИОПТРОН</a:t>
            </a:r>
            <a:r>
              <a:rPr b="1" lang="sr-Latn-CS" sz="4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333399"/>
                </a:solidFill>
                <a:latin typeface="Calibri"/>
              </a:rPr>
              <a:t>ПОЛАРИЗОВАНА</a:t>
            </a:r>
            <a:r>
              <a:rPr b="1" lang="sr-Latn-CS" sz="4000" spc="-1" strike="noStrike">
                <a:solidFill>
                  <a:srgbClr val="333399"/>
                </a:solidFill>
                <a:latin typeface="Calibri"/>
              </a:rPr>
              <a:t> </a:t>
            </a:r>
            <a:br>
              <a:rPr sz="4000"/>
            </a:br>
            <a:r>
              <a:rPr b="1" lang="sr-CS" sz="4000" spc="-1" strike="noStrike">
                <a:solidFill>
                  <a:srgbClr val="333399"/>
                </a:solidFill>
                <a:latin typeface="Calibri"/>
              </a:rPr>
              <a:t>СВЕТЛОСТ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линеарно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поларизована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полихроматска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светлост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400-2000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нм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тј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цео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видљиви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спектар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ИЦА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део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ИЦ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-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Б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.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Добија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преламањем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коз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посебно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“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БРУСТЕР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”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вишеслојно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огледало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пропуштањем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кроз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систем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фото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-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филтера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ЗЕПТЕР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суштина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унос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додатне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енергије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која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стимулише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ћелијски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метаболизам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ff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333399"/>
                </a:solidFill>
                <a:latin typeface="Calibri"/>
              </a:rPr>
              <a:t>РАЗЛИКА</a:t>
            </a:r>
            <a:r>
              <a:rPr b="0" lang="sr-Latn-CS" sz="4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333399"/>
                </a:solidFill>
                <a:latin typeface="Calibri"/>
              </a:rPr>
              <a:t>ИЗМЕЂУ</a:t>
            </a:r>
            <a:r>
              <a:rPr b="0" lang="sr-Latn-CS" sz="4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333399"/>
                </a:solidFill>
                <a:latin typeface="Calibri"/>
              </a:rPr>
              <a:t>ОБИЧНЕ</a:t>
            </a:r>
            <a:r>
              <a:rPr b="0" lang="sr-Latn-CS" sz="4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333399"/>
                </a:solidFill>
                <a:latin typeface="Calibri"/>
              </a:rPr>
              <a:t>И</a:t>
            </a:r>
            <a:r>
              <a:rPr b="0" lang="sr-Latn-CS" sz="4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333399"/>
                </a:solidFill>
                <a:latin typeface="Calibri"/>
              </a:rPr>
              <a:t>ПОЛАРИЗОВАНЕ</a:t>
            </a:r>
            <a:r>
              <a:rPr b="0" lang="sr-Latn-CS" sz="4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333399"/>
                </a:solidFill>
                <a:latin typeface="Calibri"/>
              </a:rPr>
              <a:t>СВЕТЛОСТ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светлосни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зраци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простиру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паралелним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равни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таласи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нису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синхронизовани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имају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различиту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фреквенц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енергија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мала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али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констант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3399"/>
                </a:solidFill>
                <a:latin typeface="Calibri"/>
              </a:rPr>
              <a:t>ФИЗИОЛОШКА</a:t>
            </a:r>
            <a:r>
              <a:rPr b="0" lang="sr-Latn-CS" sz="32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333399"/>
                </a:solidFill>
                <a:latin typeface="Calibri"/>
              </a:rPr>
              <a:t>ДЕЈСТВА БИОПТРОН</a:t>
            </a:r>
            <a:r>
              <a:rPr b="0" lang="sr-Latn-CS" sz="3200" spc="-1" strike="noStrike">
                <a:solidFill>
                  <a:srgbClr val="333399"/>
                </a:solidFill>
                <a:latin typeface="Calibri"/>
              </a:rPr>
              <a:t> </a:t>
            </a:r>
            <a:br>
              <a:rPr sz="3200"/>
            </a:br>
            <a:r>
              <a:rPr b="0" lang="sr-CS" sz="3200" spc="-1" strike="noStrike">
                <a:solidFill>
                  <a:srgbClr val="333399"/>
                </a:solidFill>
                <a:latin typeface="Calibri"/>
              </a:rPr>
              <a:t>СВЕТЛОСТ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нормализуј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мембрански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тенција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већав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ен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активност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ћел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мембра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већав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АТП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родукциј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дстич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регулаторн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роцес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дстич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фагоцитозу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Л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већав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микроциркулациј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већав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хидратацију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оксигенацију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ћелиј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активир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макрофаг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дстич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родукцију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фактор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раст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КЛИНИЧКА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ДЕЈСТВА БИОПТРОН СВЕТЛОСТИ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поуспешује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зарастање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рана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торпидних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улцера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антиинфламатор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аналгетс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ДОЗИРАЊЕ  БИОПТРОН СВЕТЛОСТИ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растојањ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10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ц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гао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90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тепен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врем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2-8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мин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1-2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ут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дневн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редуслови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чист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кож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н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мера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окси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”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преј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терилни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водени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раствор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О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2 )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дезинфикуј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хидрир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оксигениш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кож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р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сл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терапиј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333399"/>
                </a:solidFill>
                <a:latin typeface="Tahoma"/>
              </a:rPr>
              <a:t>ИНДИКАЦИЈЕ ЗА ПРИМЕНУ “</a:t>
            </a:r>
            <a:r>
              <a:rPr b="0" lang="sr-CS" sz="3600" spc="-1" strike="noStrike">
                <a:solidFill>
                  <a:srgbClr val="333399"/>
                </a:solidFill>
                <a:latin typeface="Calibri"/>
              </a:rPr>
              <a:t>БИОПТРОН” СВЕТЛОСТИ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c1c1c"/>
                </a:solidFill>
                <a:latin typeface="Tahoma"/>
              </a:rPr>
              <a:t>ране</a:t>
            </a:r>
            <a:r>
              <a:rPr b="0" lang="sr-Latn-CS" sz="28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Tahoma"/>
              </a:rPr>
              <a:t>улкус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c1c1c"/>
                </a:solidFill>
                <a:latin typeface="Tahoma"/>
              </a:rPr>
              <a:t>опекоти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c1c1c"/>
                </a:solidFill>
                <a:latin typeface="Tahoma"/>
              </a:rPr>
              <a:t>декуби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c1c1c"/>
                </a:solidFill>
                <a:latin typeface="Tahoma"/>
              </a:rPr>
              <a:t>ак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c1c1c"/>
                </a:solidFill>
                <a:latin typeface="Tahoma"/>
              </a:rPr>
              <a:t>дермати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c1c1c"/>
                </a:solidFill>
                <a:latin typeface="Tahoma"/>
              </a:rPr>
              <a:t>целули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c1c1c"/>
                </a:solidFill>
                <a:latin typeface="Tahoma"/>
              </a:rPr>
              <a:t>постоперативни</a:t>
            </a:r>
            <a:r>
              <a:rPr b="0" lang="sr-Latn-CS" sz="28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Tahoma"/>
              </a:rPr>
              <a:t>ожиљц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рагад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брадавица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дренирани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инузити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артроз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артри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Ц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Л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фибромиалгиј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портск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вред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85440"/>
            <a:ext cx="7792920" cy="107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УЛТРАВИОЛЕТНИ</a:t>
            </a:r>
            <a:r>
              <a:rPr b="1" lang="sr-Latn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ЗРАЦИ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криве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801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893.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у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нструисан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в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штачк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вор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В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ра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“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варц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ламп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варц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ламп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6666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уалистичка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природа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светло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8908920" y="2017800"/>
          <a:ext cx="46080" cy="411480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Подела</a:t>
            </a:r>
            <a:r>
              <a:rPr b="0" lang="en-GB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УВ</a:t>
            </a:r>
            <a:r>
              <a:rPr b="0" lang="en-GB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зрака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398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лтравиолетн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рац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В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таласн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дужин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380 - 315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н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7398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лтравиолетн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рац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Б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ВБ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таласн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дужин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315 - 280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н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7398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лтравиолетн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рац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Ц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ВЦ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таласн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дужин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280 - 13,6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н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6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6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Локални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ефекти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УВЗ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развој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ерите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бактерицидни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ефека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одукција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витамина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активација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ензи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61704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Регионална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осетљивост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на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УВ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зраке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(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петостепена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скала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2608200" y="1981080"/>
            <a:ext cx="39276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озирање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УВЗ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биодоза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га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растојање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број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да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Биодоз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0" y="6171840"/>
          <a:ext cx="76320" cy="304920"/>
        </p:xfrm>
        <a:graphic>
          <a:graphicData uri="http://schemas.openxmlformats.org/drawingml/2006/table"/>
        </a:graphic>
      </p:graphicFrame>
      <p:grpSp>
        <p:nvGrpSpPr>
          <p:cNvPr id="221" name="Group 4"/>
          <p:cNvGrpSpPr/>
          <p:nvPr/>
        </p:nvGrpSpPr>
        <p:grpSpPr>
          <a:xfrm>
            <a:off x="1066680" y="2209680"/>
            <a:ext cx="6324120" cy="3428640"/>
            <a:chOff x="1066680" y="2209680"/>
            <a:chExt cx="6324120" cy="3428640"/>
          </a:xfrm>
        </p:grpSpPr>
        <p:sp>
          <p:nvSpPr>
            <p:cNvPr id="222" name="Rectangle 5"/>
            <p:cNvSpPr/>
            <p:nvPr/>
          </p:nvSpPr>
          <p:spPr>
            <a:xfrm>
              <a:off x="1163520" y="2209680"/>
              <a:ext cx="1435680" cy="5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Stepen eritem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Rectangle 6"/>
            <p:cNvSpPr/>
            <p:nvPr/>
          </p:nvSpPr>
          <p:spPr>
            <a:xfrm>
              <a:off x="5934960" y="2209680"/>
              <a:ext cx="1262520" cy="5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Biodoza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Rectangle 7"/>
            <p:cNvSpPr/>
            <p:nvPr/>
          </p:nvSpPr>
          <p:spPr>
            <a:xfrm>
              <a:off x="6128280" y="2718000"/>
              <a:ext cx="126252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u min.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Rectangle 8"/>
            <p:cNvSpPr/>
            <p:nvPr/>
          </p:nvSpPr>
          <p:spPr>
            <a:xfrm>
              <a:off x="1163520" y="3134880"/>
              <a:ext cx="143568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Sl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Rectangle 9"/>
            <p:cNvSpPr/>
            <p:nvPr/>
          </p:nvSpPr>
          <p:spPr>
            <a:xfrm>
              <a:off x="2599200" y="3134880"/>
              <a:ext cx="91800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3517560" y="3134880"/>
              <a:ext cx="91800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France YU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Rectangle 11"/>
            <p:cNvSpPr/>
            <p:nvPr/>
          </p:nvSpPr>
          <p:spPr>
            <a:xfrm>
              <a:off x="4435920" y="3134880"/>
              <a:ext cx="91872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France YU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Rectangle 12"/>
            <p:cNvSpPr/>
            <p:nvPr/>
          </p:nvSpPr>
          <p:spPr>
            <a:xfrm>
              <a:off x="5354640" y="3134880"/>
              <a:ext cx="126216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Rectangle 13"/>
            <p:cNvSpPr/>
            <p:nvPr/>
          </p:nvSpPr>
          <p:spPr>
            <a:xfrm>
              <a:off x="1163520" y="3552480"/>
              <a:ext cx="143568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J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Rectangle 14"/>
            <p:cNvSpPr/>
            <p:nvPr/>
          </p:nvSpPr>
          <p:spPr>
            <a:xfrm>
              <a:off x="2599200" y="3552480"/>
              <a:ext cx="91800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Rectangle 15"/>
            <p:cNvSpPr/>
            <p:nvPr/>
          </p:nvSpPr>
          <p:spPr>
            <a:xfrm>
              <a:off x="3517560" y="3552480"/>
              <a:ext cx="91800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France YU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Rectangle 16"/>
            <p:cNvSpPr/>
            <p:nvPr/>
          </p:nvSpPr>
          <p:spPr>
            <a:xfrm>
              <a:off x="4435920" y="3552480"/>
              <a:ext cx="91872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France YU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Rectangle 17"/>
            <p:cNvSpPr/>
            <p:nvPr/>
          </p:nvSpPr>
          <p:spPr>
            <a:xfrm>
              <a:off x="5354640" y="3552480"/>
              <a:ext cx="1262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0,5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Rectangle 18"/>
            <p:cNvSpPr/>
            <p:nvPr/>
          </p:nvSpPr>
          <p:spPr>
            <a:xfrm>
              <a:off x="1163520" y="3969720"/>
              <a:ext cx="143568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Sl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Rectangle 19"/>
            <p:cNvSpPr/>
            <p:nvPr/>
          </p:nvSpPr>
          <p:spPr>
            <a:xfrm>
              <a:off x="2599200" y="3969720"/>
              <a:ext cx="91800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France YU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Rectangle 20"/>
            <p:cNvSpPr/>
            <p:nvPr/>
          </p:nvSpPr>
          <p:spPr>
            <a:xfrm>
              <a:off x="3517560" y="3969720"/>
              <a:ext cx="91800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Rectangle 21"/>
            <p:cNvSpPr/>
            <p:nvPr/>
          </p:nvSpPr>
          <p:spPr>
            <a:xfrm>
              <a:off x="4435920" y="3969720"/>
              <a:ext cx="91872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France YU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Rectangle 22"/>
            <p:cNvSpPr/>
            <p:nvPr/>
          </p:nvSpPr>
          <p:spPr>
            <a:xfrm>
              <a:off x="5354640" y="3969720"/>
              <a:ext cx="1262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Rectangle 23"/>
            <p:cNvSpPr/>
            <p:nvPr/>
          </p:nvSpPr>
          <p:spPr>
            <a:xfrm>
              <a:off x="1163520" y="4386600"/>
              <a:ext cx="143568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J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Rectangle 24"/>
            <p:cNvSpPr/>
            <p:nvPr/>
          </p:nvSpPr>
          <p:spPr>
            <a:xfrm>
              <a:off x="2599200" y="4386600"/>
              <a:ext cx="91800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France YU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Rectangle 25"/>
            <p:cNvSpPr/>
            <p:nvPr/>
          </p:nvSpPr>
          <p:spPr>
            <a:xfrm>
              <a:off x="3517560" y="4386600"/>
              <a:ext cx="91800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Rectangle 26"/>
            <p:cNvSpPr/>
            <p:nvPr/>
          </p:nvSpPr>
          <p:spPr>
            <a:xfrm>
              <a:off x="4435920" y="4386600"/>
              <a:ext cx="91872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France YU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Rectangle 27"/>
            <p:cNvSpPr/>
            <p:nvPr/>
          </p:nvSpPr>
          <p:spPr>
            <a:xfrm>
              <a:off x="5354640" y="4386600"/>
              <a:ext cx="126216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1,5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Rectangle 28"/>
            <p:cNvSpPr/>
            <p:nvPr/>
          </p:nvSpPr>
          <p:spPr>
            <a:xfrm>
              <a:off x="1163520" y="4804200"/>
              <a:ext cx="143568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Sl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Rectangle 29"/>
            <p:cNvSpPr/>
            <p:nvPr/>
          </p:nvSpPr>
          <p:spPr>
            <a:xfrm>
              <a:off x="2599200" y="4804200"/>
              <a:ext cx="91800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France YU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Rectangle 30"/>
            <p:cNvSpPr/>
            <p:nvPr/>
          </p:nvSpPr>
          <p:spPr>
            <a:xfrm>
              <a:off x="3517560" y="4804200"/>
              <a:ext cx="91800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France YU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Rectangle 31"/>
            <p:cNvSpPr/>
            <p:nvPr/>
          </p:nvSpPr>
          <p:spPr>
            <a:xfrm>
              <a:off x="4435920" y="4804200"/>
              <a:ext cx="91872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7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ff0000"/>
                  </a:solidFill>
                  <a:latin typeface="Times New Roman"/>
                </a:rPr>
                <a:t>        </a:t>
              </a:r>
              <a:r>
                <a:rPr b="0" lang="sr-Latn-C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sr-Latn-CS" sz="2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marL="87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Rectangle 32"/>
            <p:cNvSpPr/>
            <p:nvPr/>
          </p:nvSpPr>
          <p:spPr>
            <a:xfrm>
              <a:off x="5354640" y="4804200"/>
              <a:ext cx="1262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Rectangle 33"/>
            <p:cNvSpPr/>
            <p:nvPr/>
          </p:nvSpPr>
          <p:spPr>
            <a:xfrm>
              <a:off x="1163520" y="5221080"/>
              <a:ext cx="143568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J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Rectangle 34"/>
            <p:cNvSpPr/>
            <p:nvPr/>
          </p:nvSpPr>
          <p:spPr>
            <a:xfrm>
              <a:off x="2599200" y="5221080"/>
              <a:ext cx="91800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France YU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Rectangle 35"/>
            <p:cNvSpPr/>
            <p:nvPr/>
          </p:nvSpPr>
          <p:spPr>
            <a:xfrm>
              <a:off x="3517560" y="5221080"/>
              <a:ext cx="91800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France YU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Rectangle 36"/>
            <p:cNvSpPr/>
            <p:nvPr/>
          </p:nvSpPr>
          <p:spPr>
            <a:xfrm>
              <a:off x="4435920" y="5221080"/>
              <a:ext cx="91872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634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marL="5634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Rectangle 37"/>
            <p:cNvSpPr/>
            <p:nvPr/>
          </p:nvSpPr>
          <p:spPr>
            <a:xfrm>
              <a:off x="5354640" y="5221080"/>
              <a:ext cx="126216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3,5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55" name="Group 38"/>
            <p:cNvGrpSpPr/>
            <p:nvPr/>
          </p:nvGrpSpPr>
          <p:grpSpPr>
            <a:xfrm>
              <a:off x="2502360" y="2209680"/>
              <a:ext cx="3335760" cy="508320"/>
              <a:chOff x="2502360" y="2209680"/>
              <a:chExt cx="3335760" cy="508320"/>
            </a:xfrm>
          </p:grpSpPr>
          <p:sp>
            <p:nvSpPr>
              <p:cNvPr id="256" name="Rectangle 39"/>
              <p:cNvSpPr/>
              <p:nvPr/>
            </p:nvSpPr>
            <p:spPr>
              <a:xfrm>
                <a:off x="2599200" y="2209680"/>
                <a:ext cx="3141720" cy="50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0000"/>
                    </a:solidFill>
                    <a:latin typeface="France YU"/>
                    <a:ea typeface="Times New Roman"/>
                  </a:rPr>
                  <a:t>Vreme zračenja u min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40"/>
              <p:cNvSpPr/>
              <p:nvPr/>
            </p:nvSpPr>
            <p:spPr>
              <a:xfrm>
                <a:off x="2502360" y="2209680"/>
                <a:ext cx="3335760" cy="508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58" name="Group 41"/>
            <p:cNvGrpSpPr/>
            <p:nvPr/>
          </p:nvGrpSpPr>
          <p:grpSpPr>
            <a:xfrm>
              <a:off x="1066680" y="2718000"/>
              <a:ext cx="1629360" cy="416880"/>
              <a:chOff x="1066680" y="2718000"/>
              <a:chExt cx="1629360" cy="416880"/>
            </a:xfrm>
          </p:grpSpPr>
          <p:sp>
            <p:nvSpPr>
              <p:cNvPr id="259" name="Rectangle 42"/>
              <p:cNvSpPr/>
              <p:nvPr/>
            </p:nvSpPr>
            <p:spPr>
              <a:xfrm>
                <a:off x="1163520" y="2718000"/>
                <a:ext cx="1435320" cy="41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France YU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43"/>
              <p:cNvSpPr/>
              <p:nvPr/>
            </p:nvSpPr>
            <p:spPr>
              <a:xfrm>
                <a:off x="1066680" y="2718000"/>
                <a:ext cx="1629360" cy="416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61" name="Group 44"/>
            <p:cNvGrpSpPr/>
            <p:nvPr/>
          </p:nvGrpSpPr>
          <p:grpSpPr>
            <a:xfrm>
              <a:off x="2696400" y="2718000"/>
              <a:ext cx="1111320" cy="416880"/>
              <a:chOff x="2696400" y="2718000"/>
              <a:chExt cx="1111320" cy="416880"/>
            </a:xfrm>
          </p:grpSpPr>
          <p:sp>
            <p:nvSpPr>
              <p:cNvPr id="262" name="Rectangle 45"/>
              <p:cNvSpPr/>
              <p:nvPr/>
            </p:nvSpPr>
            <p:spPr>
              <a:xfrm>
                <a:off x="2792520" y="2718000"/>
                <a:ext cx="918000" cy="41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0000"/>
                    </a:solidFill>
                    <a:latin typeface="France YU"/>
                    <a:ea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46"/>
              <p:cNvSpPr/>
              <p:nvPr/>
            </p:nvSpPr>
            <p:spPr>
              <a:xfrm>
                <a:off x="2696400" y="2718000"/>
                <a:ext cx="1111320" cy="416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64" name="Group 47"/>
            <p:cNvGrpSpPr/>
            <p:nvPr/>
          </p:nvGrpSpPr>
          <p:grpSpPr>
            <a:xfrm>
              <a:off x="3808080" y="2718000"/>
              <a:ext cx="1111320" cy="416880"/>
              <a:chOff x="3808080" y="2718000"/>
              <a:chExt cx="1111320" cy="416880"/>
            </a:xfrm>
          </p:grpSpPr>
          <p:sp>
            <p:nvSpPr>
              <p:cNvPr id="265" name="Rectangle 48"/>
              <p:cNvSpPr/>
              <p:nvPr/>
            </p:nvSpPr>
            <p:spPr>
              <a:xfrm>
                <a:off x="3904920" y="2718000"/>
                <a:ext cx="918000" cy="41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0000"/>
                    </a:solidFill>
                    <a:latin typeface="France YU"/>
                    <a:ea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49"/>
              <p:cNvSpPr/>
              <p:nvPr/>
            </p:nvSpPr>
            <p:spPr>
              <a:xfrm>
                <a:off x="3808080" y="2718000"/>
                <a:ext cx="1111320" cy="416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67" name="Group 50"/>
            <p:cNvGrpSpPr/>
            <p:nvPr/>
          </p:nvGrpSpPr>
          <p:grpSpPr>
            <a:xfrm>
              <a:off x="4919760" y="2718000"/>
              <a:ext cx="1111680" cy="416880"/>
              <a:chOff x="4919760" y="2718000"/>
              <a:chExt cx="1111680" cy="416880"/>
            </a:xfrm>
          </p:grpSpPr>
          <p:sp>
            <p:nvSpPr>
              <p:cNvPr id="268" name="Rectangle 51"/>
              <p:cNvSpPr/>
              <p:nvPr/>
            </p:nvSpPr>
            <p:spPr>
              <a:xfrm>
                <a:off x="5016600" y="2718000"/>
                <a:ext cx="917640" cy="41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0000"/>
                    </a:solidFill>
                    <a:latin typeface="France YU"/>
                    <a:ea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52"/>
              <p:cNvSpPr/>
              <p:nvPr/>
            </p:nvSpPr>
            <p:spPr>
              <a:xfrm>
                <a:off x="4919760" y="2718000"/>
                <a:ext cx="1111680" cy="416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Дозирање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УВЗ</a:t>
            </a:r>
            <a:r>
              <a:rPr b="0" lang="en-US" sz="4400" spc="-1" strike="noStrike">
                <a:solidFill>
                  <a:srgbClr val="3333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суберитемна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доз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вод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знатног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црвенил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минимална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еритемна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доз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црвенило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оку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24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т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влач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ез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љуспањ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ж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еритемна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доза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I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степена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јач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црвенило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ритациј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љуспањ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ж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еритемна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доза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II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степен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еритем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врабом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јаком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ритацијом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ећајем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чењ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јако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љуштењ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ж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еритемна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доза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III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степен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еритем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јаког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епен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јавом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едемом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екотин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вог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епен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3399"/>
                </a:solidFill>
                <a:latin typeface="Calibri"/>
                <a:ea typeface="Times New Roman"/>
              </a:rPr>
              <a:t>Биолошко</a:t>
            </a:r>
            <a:r>
              <a:rPr b="1" lang="en-GB" sz="3600" spc="-1" strike="noStrike">
                <a:solidFill>
                  <a:srgbClr val="333399"/>
                </a:solidFill>
                <a:latin typeface="Calibri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333399"/>
                </a:solidFill>
                <a:latin typeface="Calibri"/>
                <a:ea typeface="Times New Roman"/>
              </a:rPr>
              <a:t>и</a:t>
            </a:r>
            <a:r>
              <a:rPr b="1" lang="en-GB" sz="3600" spc="-1" strike="noStrike">
                <a:solidFill>
                  <a:srgbClr val="333399"/>
                </a:solidFill>
                <a:latin typeface="Calibri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333399"/>
                </a:solidFill>
                <a:latin typeface="Calibri"/>
                <a:ea typeface="Times New Roman"/>
              </a:rPr>
              <a:t>физиолошко</a:t>
            </a:r>
            <a:r>
              <a:rPr b="1" lang="en-GB" sz="3600" spc="-1" strike="noStrike">
                <a:solidFill>
                  <a:srgbClr val="333399"/>
                </a:solidFill>
                <a:latin typeface="Calibri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333399"/>
                </a:solidFill>
                <a:latin typeface="Calibri"/>
                <a:ea typeface="Times New Roman"/>
              </a:rPr>
              <a:t>деловање</a:t>
            </a:r>
            <a:r>
              <a:rPr b="1" lang="en-GB" sz="3600" spc="-1" strike="noStrike">
                <a:solidFill>
                  <a:srgbClr val="333399"/>
                </a:solidFill>
                <a:latin typeface="Calibri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333399"/>
                </a:solidFill>
                <a:latin typeface="Calibri"/>
                <a:ea typeface="Times New Roman"/>
              </a:rPr>
              <a:t>УВ</a:t>
            </a:r>
            <a:r>
              <a:rPr b="1" lang="en-GB" sz="3600" spc="-1" strike="noStrike">
                <a:solidFill>
                  <a:srgbClr val="333399"/>
                </a:solidFill>
                <a:latin typeface="Calibri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333399"/>
                </a:solidFill>
                <a:latin typeface="Calibri"/>
                <a:ea typeface="Times New Roman"/>
              </a:rPr>
              <a:t>зрачења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фотохемијски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феномен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мен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днос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поред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атом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0520" indent="-29052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фотоелектрични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феномен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њањ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лектричн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внотеж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атом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мисијом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лектрон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0520" indent="-29052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феномен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флуоресценциј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-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њањ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инетичког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њ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атом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пласирањем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лектрон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једн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утањ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угу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0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Општи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ефекти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УВЗ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већањ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метаболиз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већањ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број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еритроцит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Хг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већањ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број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леукоцит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муните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већан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гастричн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екрециј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већањ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реналн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функциј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тимулациј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функциј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надбубрег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тимулациј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ЦНС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ВН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нормализациј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гликемиј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холестерол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, C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Терапијско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дејство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УВЗ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офичк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бољш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генера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пителизац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налгетск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95280" y="914400"/>
            <a:ext cx="7648560" cy="84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Индикације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УВЗ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 -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локално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жн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ест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цна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улгарис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лопети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сориасис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куби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уролошк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ест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уралги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уритис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Ц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y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Л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уматолошк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ест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генеративн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уматизам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нзглобн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уматиза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инеколошк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ест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дн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x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тис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сменоре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скуларн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хирургиј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орпидн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н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скуларној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нов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лцус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црурис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фтамологиј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лефаритис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ацх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ртопедиј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њ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фрактур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стију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вред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ких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кив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Електормагнетни</a:t>
            </a:r>
            <a:r>
              <a:rPr b="0" lang="en-GB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спектар</a:t>
            </a:r>
            <a:r>
              <a:rPr b="0" lang="en-GB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према</a:t>
            </a:r>
            <a:r>
              <a:rPr b="0" lang="en-GB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таласној</a:t>
            </a:r>
            <a:r>
              <a:rPr b="0" lang="en-GB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дужини</a:t>
            </a:r>
            <a:r>
              <a:rPr b="0" lang="en-GB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активних</a:t>
            </a:r>
            <a:r>
              <a:rPr b="0" lang="en-GB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електромагнетних</a:t>
            </a:r>
            <a:r>
              <a:rPr b="0" lang="en-GB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зрака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6" name="Group 54"/>
          <p:cNvGrpSpPr/>
          <p:nvPr/>
        </p:nvGrpSpPr>
        <p:grpSpPr>
          <a:xfrm>
            <a:off x="3809880" y="1828800"/>
            <a:ext cx="4571640" cy="4648320"/>
            <a:chOff x="3809880" y="1828800"/>
            <a:chExt cx="4571640" cy="4648320"/>
          </a:xfrm>
        </p:grpSpPr>
        <p:grpSp>
          <p:nvGrpSpPr>
            <p:cNvPr id="107" name="Group 52"/>
            <p:cNvGrpSpPr/>
            <p:nvPr/>
          </p:nvGrpSpPr>
          <p:grpSpPr>
            <a:xfrm>
              <a:off x="3817080" y="1833120"/>
              <a:ext cx="4555800" cy="4638960"/>
              <a:chOff x="3817080" y="1833120"/>
              <a:chExt cx="4555800" cy="4638960"/>
            </a:xfrm>
          </p:grpSpPr>
          <p:grpSp>
            <p:nvGrpSpPr>
              <p:cNvPr id="108" name="Group 21"/>
              <p:cNvGrpSpPr/>
              <p:nvPr/>
            </p:nvGrpSpPr>
            <p:grpSpPr>
              <a:xfrm>
                <a:off x="3817080" y="1833120"/>
                <a:ext cx="2429640" cy="579600"/>
                <a:chOff x="3817080" y="1833120"/>
                <a:chExt cx="2429640" cy="579600"/>
              </a:xfrm>
            </p:grpSpPr>
            <p:sp>
              <p:nvSpPr>
                <p:cNvPr id="109" name="Rectangle 4"/>
                <p:cNvSpPr/>
                <p:nvPr/>
              </p:nvSpPr>
              <p:spPr>
                <a:xfrm>
                  <a:off x="3926160" y="1833120"/>
                  <a:ext cx="22111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France YU"/>
                      <a:ea typeface="Times New Roman"/>
                    </a:rPr>
                    <a:t>Elektromagnetni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France YU"/>
                      <a:ea typeface="Times New Roman"/>
                    </a:rPr>
                    <a:t> zraci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" name="Rectangle 20"/>
                <p:cNvSpPr/>
                <p:nvPr/>
              </p:nvSpPr>
              <p:spPr>
                <a:xfrm>
                  <a:off x="3817080" y="1833120"/>
                  <a:ext cx="2429640" cy="57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" name="Group 23"/>
              <p:cNvGrpSpPr/>
              <p:nvPr/>
            </p:nvGrpSpPr>
            <p:grpSpPr>
              <a:xfrm>
                <a:off x="6247080" y="1833120"/>
                <a:ext cx="2125800" cy="579600"/>
                <a:chOff x="6247080" y="1833120"/>
                <a:chExt cx="2125800" cy="579600"/>
              </a:xfrm>
            </p:grpSpPr>
            <p:sp>
              <p:nvSpPr>
                <p:cNvPr id="112" name="Rectangle 5"/>
                <p:cNvSpPr/>
                <p:nvPr/>
              </p:nvSpPr>
              <p:spPr>
                <a:xfrm>
                  <a:off x="6356160" y="1833120"/>
                  <a:ext cx="19072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France YU"/>
                      <a:ea typeface="Times New Roman"/>
                    </a:rPr>
                    <a:t>Talasne dužine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Rectangle 22"/>
                <p:cNvSpPr/>
                <p:nvPr/>
              </p:nvSpPr>
              <p:spPr>
                <a:xfrm>
                  <a:off x="6247080" y="1833120"/>
                  <a:ext cx="2125800" cy="57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" name="Group 25"/>
              <p:cNvGrpSpPr/>
              <p:nvPr/>
            </p:nvGrpSpPr>
            <p:grpSpPr>
              <a:xfrm>
                <a:off x="3817080" y="2412720"/>
                <a:ext cx="2429640" cy="579960"/>
                <a:chOff x="3817080" y="2412720"/>
                <a:chExt cx="2429640" cy="579960"/>
              </a:xfrm>
            </p:grpSpPr>
            <p:sp>
              <p:nvSpPr>
                <p:cNvPr id="115" name="Rectangle 6"/>
                <p:cNvSpPr/>
                <p:nvPr/>
              </p:nvSpPr>
              <p:spPr>
                <a:xfrm>
                  <a:off x="3926160" y="2412720"/>
                  <a:ext cx="221112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France YU"/>
                      <a:ea typeface="Times New Roman"/>
                    </a:rPr>
                    <a:t>Gama zraci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Rectangle 24"/>
                <p:cNvSpPr/>
                <p:nvPr/>
              </p:nvSpPr>
              <p:spPr>
                <a:xfrm>
                  <a:off x="3817080" y="2412720"/>
                  <a:ext cx="2429640" cy="57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" name="Group 27"/>
              <p:cNvGrpSpPr/>
              <p:nvPr/>
            </p:nvGrpSpPr>
            <p:grpSpPr>
              <a:xfrm>
                <a:off x="6247080" y="2412720"/>
                <a:ext cx="2125800" cy="579960"/>
                <a:chOff x="6247080" y="2412720"/>
                <a:chExt cx="2125800" cy="579960"/>
              </a:xfrm>
            </p:grpSpPr>
            <p:sp>
              <p:nvSpPr>
                <p:cNvPr id="118" name="Rectangle 7"/>
                <p:cNvSpPr/>
                <p:nvPr/>
              </p:nvSpPr>
              <p:spPr>
                <a:xfrm>
                  <a:off x="6356160" y="2412720"/>
                  <a:ext cx="190728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France YU"/>
                      <a:ea typeface="Times New Roman"/>
                    </a:rPr>
                    <a:t>0,001 - 0,01 nm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Rectangle 26"/>
                <p:cNvSpPr/>
                <p:nvPr/>
              </p:nvSpPr>
              <p:spPr>
                <a:xfrm>
                  <a:off x="6247080" y="2412720"/>
                  <a:ext cx="2125800" cy="57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" name="Group 29"/>
              <p:cNvGrpSpPr/>
              <p:nvPr/>
            </p:nvGrpSpPr>
            <p:grpSpPr>
              <a:xfrm>
                <a:off x="3817080" y="2993040"/>
                <a:ext cx="2429640" cy="579600"/>
                <a:chOff x="3817080" y="2993040"/>
                <a:chExt cx="2429640" cy="579600"/>
              </a:xfrm>
            </p:grpSpPr>
            <p:sp>
              <p:nvSpPr>
                <p:cNvPr id="121" name="Rectangle 8"/>
                <p:cNvSpPr/>
                <p:nvPr/>
              </p:nvSpPr>
              <p:spPr>
                <a:xfrm>
                  <a:off x="3926160" y="2993040"/>
                  <a:ext cx="22111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France YU"/>
                      <a:ea typeface="Times New Roman"/>
                    </a:rPr>
                    <a:t>X zraci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Rectangle 28"/>
                <p:cNvSpPr/>
                <p:nvPr/>
              </p:nvSpPr>
              <p:spPr>
                <a:xfrm>
                  <a:off x="3817080" y="2993040"/>
                  <a:ext cx="2429640" cy="57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" name="Group 31"/>
              <p:cNvGrpSpPr/>
              <p:nvPr/>
            </p:nvGrpSpPr>
            <p:grpSpPr>
              <a:xfrm>
                <a:off x="6247080" y="2993040"/>
                <a:ext cx="2125800" cy="579600"/>
                <a:chOff x="6247080" y="2993040"/>
                <a:chExt cx="2125800" cy="579600"/>
              </a:xfrm>
            </p:grpSpPr>
            <p:sp>
              <p:nvSpPr>
                <p:cNvPr id="124" name="Rectangle 9"/>
                <p:cNvSpPr/>
                <p:nvPr/>
              </p:nvSpPr>
              <p:spPr>
                <a:xfrm>
                  <a:off x="6356160" y="2993040"/>
                  <a:ext cx="19072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France YU"/>
                      <a:ea typeface="Times New Roman"/>
                    </a:rPr>
                    <a:t>0,01 - 10 nm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Rectangle 30"/>
                <p:cNvSpPr/>
                <p:nvPr/>
              </p:nvSpPr>
              <p:spPr>
                <a:xfrm>
                  <a:off x="6247080" y="2993040"/>
                  <a:ext cx="2125800" cy="57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" name="Group 33"/>
              <p:cNvGrpSpPr/>
              <p:nvPr/>
            </p:nvGrpSpPr>
            <p:grpSpPr>
              <a:xfrm>
                <a:off x="3817080" y="3572640"/>
                <a:ext cx="2429640" cy="579600"/>
                <a:chOff x="3817080" y="3572640"/>
                <a:chExt cx="2429640" cy="579600"/>
              </a:xfrm>
            </p:grpSpPr>
            <p:sp>
              <p:nvSpPr>
                <p:cNvPr id="127" name="Rectangle 10"/>
                <p:cNvSpPr/>
                <p:nvPr/>
              </p:nvSpPr>
              <p:spPr>
                <a:xfrm>
                  <a:off x="3926160" y="3572640"/>
                  <a:ext cx="22111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France YU"/>
                      <a:ea typeface="Times New Roman"/>
                    </a:rPr>
                    <a:t>U.V. zraci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Rectangle 32"/>
                <p:cNvSpPr/>
                <p:nvPr/>
              </p:nvSpPr>
              <p:spPr>
                <a:xfrm>
                  <a:off x="3817080" y="3572640"/>
                  <a:ext cx="2429640" cy="57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" name="Group 35"/>
              <p:cNvGrpSpPr/>
              <p:nvPr/>
            </p:nvGrpSpPr>
            <p:grpSpPr>
              <a:xfrm>
                <a:off x="6247080" y="3572640"/>
                <a:ext cx="2125800" cy="579600"/>
                <a:chOff x="6247080" y="3572640"/>
                <a:chExt cx="2125800" cy="579600"/>
              </a:xfrm>
            </p:grpSpPr>
            <p:sp>
              <p:nvSpPr>
                <p:cNvPr id="130" name="Rectangle 11"/>
                <p:cNvSpPr/>
                <p:nvPr/>
              </p:nvSpPr>
              <p:spPr>
                <a:xfrm>
                  <a:off x="6356160" y="3572640"/>
                  <a:ext cx="19072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France YU"/>
                      <a:ea typeface="Times New Roman"/>
                    </a:rPr>
                    <a:t>10 - 380 nm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" name="Rectangle 34"/>
                <p:cNvSpPr/>
                <p:nvPr/>
              </p:nvSpPr>
              <p:spPr>
                <a:xfrm>
                  <a:off x="6247080" y="3572640"/>
                  <a:ext cx="2125800" cy="57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" name="Group 37"/>
              <p:cNvGrpSpPr/>
              <p:nvPr/>
            </p:nvGrpSpPr>
            <p:grpSpPr>
              <a:xfrm>
                <a:off x="3817080" y="4152600"/>
                <a:ext cx="2429640" cy="579960"/>
                <a:chOff x="3817080" y="4152600"/>
                <a:chExt cx="2429640" cy="579960"/>
              </a:xfrm>
            </p:grpSpPr>
            <p:sp>
              <p:nvSpPr>
                <p:cNvPr id="133" name="Rectangle 12"/>
                <p:cNvSpPr/>
                <p:nvPr/>
              </p:nvSpPr>
              <p:spPr>
                <a:xfrm>
                  <a:off x="3926160" y="4152600"/>
                  <a:ext cx="221112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France YU"/>
                      <a:ea typeface="Times New Roman"/>
                    </a:rPr>
                    <a:t>Vidljivi zraci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Rectangle 36"/>
                <p:cNvSpPr/>
                <p:nvPr/>
              </p:nvSpPr>
              <p:spPr>
                <a:xfrm>
                  <a:off x="3817080" y="4152600"/>
                  <a:ext cx="2429640" cy="57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5" name="Group 39"/>
              <p:cNvGrpSpPr/>
              <p:nvPr/>
            </p:nvGrpSpPr>
            <p:grpSpPr>
              <a:xfrm>
                <a:off x="6247080" y="4152600"/>
                <a:ext cx="2125800" cy="579960"/>
                <a:chOff x="6247080" y="4152600"/>
                <a:chExt cx="2125800" cy="579960"/>
              </a:xfrm>
            </p:grpSpPr>
            <p:sp>
              <p:nvSpPr>
                <p:cNvPr id="136" name="Rectangle 13"/>
                <p:cNvSpPr/>
                <p:nvPr/>
              </p:nvSpPr>
              <p:spPr>
                <a:xfrm>
                  <a:off x="6356160" y="4152600"/>
                  <a:ext cx="190728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France YU"/>
                      <a:ea typeface="Times New Roman"/>
                    </a:rPr>
                    <a:t>380 - 760 nm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Rectangle 38"/>
                <p:cNvSpPr/>
                <p:nvPr/>
              </p:nvSpPr>
              <p:spPr>
                <a:xfrm>
                  <a:off x="6247080" y="4152600"/>
                  <a:ext cx="2125800" cy="57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8" name="Group 41"/>
              <p:cNvGrpSpPr/>
              <p:nvPr/>
            </p:nvGrpSpPr>
            <p:grpSpPr>
              <a:xfrm>
                <a:off x="3817080" y="4732560"/>
                <a:ext cx="2429640" cy="579600"/>
                <a:chOff x="3817080" y="4732560"/>
                <a:chExt cx="2429640" cy="579600"/>
              </a:xfrm>
            </p:grpSpPr>
            <p:sp>
              <p:nvSpPr>
                <p:cNvPr id="139" name="Rectangle 14"/>
                <p:cNvSpPr/>
                <p:nvPr/>
              </p:nvSpPr>
              <p:spPr>
                <a:xfrm>
                  <a:off x="3926160" y="4732560"/>
                  <a:ext cx="22111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France YU"/>
                      <a:ea typeface="Times New Roman"/>
                    </a:rPr>
                    <a:t>I.R. zraci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Rectangle 40"/>
                <p:cNvSpPr/>
                <p:nvPr/>
              </p:nvSpPr>
              <p:spPr>
                <a:xfrm>
                  <a:off x="3817080" y="4732560"/>
                  <a:ext cx="2429640" cy="57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41" name="Group 43"/>
              <p:cNvGrpSpPr/>
              <p:nvPr/>
            </p:nvGrpSpPr>
            <p:grpSpPr>
              <a:xfrm>
                <a:off x="6247080" y="4732560"/>
                <a:ext cx="2125800" cy="579600"/>
                <a:chOff x="6247080" y="4732560"/>
                <a:chExt cx="2125800" cy="579600"/>
              </a:xfrm>
            </p:grpSpPr>
            <p:sp>
              <p:nvSpPr>
                <p:cNvPr id="142" name="Rectangle 15"/>
                <p:cNvSpPr/>
                <p:nvPr/>
              </p:nvSpPr>
              <p:spPr>
                <a:xfrm>
                  <a:off x="6356160" y="4732560"/>
                  <a:ext cx="19072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France YU"/>
                      <a:ea typeface="Times New Roman"/>
                    </a:rPr>
                    <a:t>760 nm - 1 cm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Rectangle 42"/>
                <p:cNvSpPr/>
                <p:nvPr/>
              </p:nvSpPr>
              <p:spPr>
                <a:xfrm>
                  <a:off x="6247080" y="4732560"/>
                  <a:ext cx="2125800" cy="57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44" name="Group 45"/>
              <p:cNvGrpSpPr/>
              <p:nvPr/>
            </p:nvGrpSpPr>
            <p:grpSpPr>
              <a:xfrm>
                <a:off x="3817080" y="5312520"/>
                <a:ext cx="2429640" cy="579600"/>
                <a:chOff x="3817080" y="5312520"/>
                <a:chExt cx="2429640" cy="579600"/>
              </a:xfrm>
            </p:grpSpPr>
            <p:sp>
              <p:nvSpPr>
                <p:cNvPr id="145" name="Rectangle 16"/>
                <p:cNvSpPr/>
                <p:nvPr/>
              </p:nvSpPr>
              <p:spPr>
                <a:xfrm>
                  <a:off x="3926160" y="5312520"/>
                  <a:ext cx="22111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France YU"/>
                      <a:ea typeface="Times New Roman"/>
                    </a:rPr>
                    <a:t>Mikrotalasi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Rectangle 44"/>
                <p:cNvSpPr/>
                <p:nvPr/>
              </p:nvSpPr>
              <p:spPr>
                <a:xfrm>
                  <a:off x="3817080" y="5312520"/>
                  <a:ext cx="2429640" cy="57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47" name="Group 47"/>
              <p:cNvGrpSpPr/>
              <p:nvPr/>
            </p:nvGrpSpPr>
            <p:grpSpPr>
              <a:xfrm>
                <a:off x="6247080" y="5312520"/>
                <a:ext cx="2125800" cy="579600"/>
                <a:chOff x="6247080" y="5312520"/>
                <a:chExt cx="2125800" cy="579600"/>
              </a:xfrm>
            </p:grpSpPr>
            <p:sp>
              <p:nvSpPr>
                <p:cNvPr id="148" name="Rectangle 17"/>
                <p:cNvSpPr/>
                <p:nvPr/>
              </p:nvSpPr>
              <p:spPr>
                <a:xfrm>
                  <a:off x="6356160" y="5312520"/>
                  <a:ext cx="19072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France YU"/>
                      <a:ea typeface="Times New Roman"/>
                    </a:rPr>
                    <a:t>1 - 10 cm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Rectangle 46"/>
                <p:cNvSpPr/>
                <p:nvPr/>
              </p:nvSpPr>
              <p:spPr>
                <a:xfrm>
                  <a:off x="6247080" y="5312520"/>
                  <a:ext cx="2125800" cy="57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0" name="Group 49"/>
              <p:cNvGrpSpPr/>
              <p:nvPr/>
            </p:nvGrpSpPr>
            <p:grpSpPr>
              <a:xfrm>
                <a:off x="3817080" y="5892120"/>
                <a:ext cx="2429640" cy="579960"/>
                <a:chOff x="3817080" y="5892120"/>
                <a:chExt cx="2429640" cy="579960"/>
              </a:xfrm>
            </p:grpSpPr>
            <p:sp>
              <p:nvSpPr>
                <p:cNvPr id="151" name="Rectangle 18"/>
                <p:cNvSpPr/>
                <p:nvPr/>
              </p:nvSpPr>
              <p:spPr>
                <a:xfrm>
                  <a:off x="3926160" y="5892120"/>
                  <a:ext cx="221112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France YU"/>
                      <a:ea typeface="Times New Roman"/>
                    </a:rPr>
                    <a:t>Radiotalasi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Rectangle 48"/>
                <p:cNvSpPr/>
                <p:nvPr/>
              </p:nvSpPr>
              <p:spPr>
                <a:xfrm>
                  <a:off x="3817080" y="5892120"/>
                  <a:ext cx="2429640" cy="57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3" name="Group 51"/>
              <p:cNvGrpSpPr/>
              <p:nvPr/>
            </p:nvGrpSpPr>
            <p:grpSpPr>
              <a:xfrm>
                <a:off x="6247080" y="5892120"/>
                <a:ext cx="2125800" cy="579960"/>
                <a:chOff x="6247080" y="5892120"/>
                <a:chExt cx="2125800" cy="579960"/>
              </a:xfrm>
            </p:grpSpPr>
            <p:sp>
              <p:nvSpPr>
                <p:cNvPr id="154" name="Rectangle 19"/>
                <p:cNvSpPr/>
                <p:nvPr/>
              </p:nvSpPr>
              <p:spPr>
                <a:xfrm>
                  <a:off x="6356160" y="5892120"/>
                  <a:ext cx="190728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France YU"/>
                      <a:ea typeface="Times New Roman"/>
                    </a:rPr>
                    <a:t>do 1 km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Rectangle 50"/>
                <p:cNvSpPr/>
                <p:nvPr/>
              </p:nvSpPr>
              <p:spPr>
                <a:xfrm>
                  <a:off x="6247080" y="5892120"/>
                  <a:ext cx="2125800" cy="57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56" name="Rectangle 53"/>
            <p:cNvSpPr/>
            <p:nvPr/>
          </p:nvSpPr>
          <p:spPr>
            <a:xfrm>
              <a:off x="3809880" y="1828800"/>
              <a:ext cx="4571640" cy="46483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" name="Rectangle 56"/>
          <p:cNvSpPr/>
          <p:nvPr/>
        </p:nvSpPr>
        <p:spPr>
          <a:xfrm>
            <a:off x="380520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55"/>
              <p:cNvSpPr txBox="1"/>
              <p:nvPr/>
            </p:nvSpPr>
            <p:spPr>
              <a:xfrm>
                <a:off x="0" y="2590920"/>
                <a:ext cx="350532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h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rzina</m:t>
                        </m:r>
                        <m:r>
                          <m:rPr>
                            <m:lit/>
                            <m:nor/>
                          </m:rPr>
                          <m:t xml:space="preserve">svetlost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alasna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Á</m:t>
                        </m:r>
                        <m:r>
                          <m:rPr>
                            <m:lit/>
                            <m:nor/>
                          </m:rPr>
                          <m:t xml:space="preserve">in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Rectangle 58"/>
          <p:cNvSpPr/>
          <p:nvPr/>
        </p:nvSpPr>
        <p:spPr>
          <a:xfrm>
            <a:off x="304920" y="3886200"/>
            <a:ext cx="335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q(H) - </a:t>
            </a:r>
            <a:r>
              <a:rPr b="1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svetlosni kvant (energij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merican Typewriter YU"/>
                <a:ea typeface="Times New Roman"/>
              </a:rPr>
              <a:t>v - frekven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h - 6,67x10</a:t>
            </a:r>
            <a:r>
              <a:rPr b="1" lang="sr-Latn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/-3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Индикације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УВЗ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</a:rPr>
              <a:t> -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општ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коваленсцен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теопоро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теомијелити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њ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ло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нем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хити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нтраиндикациј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УВЗ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ктивн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БЦ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лућ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хипертиреодизам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шећерн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ест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сихијатријск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ољењ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знапредовал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хексиј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фотогене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болести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коже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лагр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лупу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ладеж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компензаци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италних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рга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рц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јетр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нтге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рматитис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лигн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умор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ж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хипервитаминоз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Оштећења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УВЗ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ожа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опекоти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очи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нежно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лепил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опште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отеински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ш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заштита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филтри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аочари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ва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Инфрацрвени</a:t>
            </a:r>
            <a:r>
              <a:rPr b="1" lang="en-GB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зраци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20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Р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рац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770 - 1500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н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620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РБ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рац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1500 - 3000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нм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620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РЦ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раци преко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3000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н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6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6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620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Кратк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Р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раци 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770 - 1500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нм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620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Дуг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Р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рац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реко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1500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н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Извори</a:t>
            </a:r>
            <a:r>
              <a:rPr b="1" lang="en-GB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ИР</a:t>
            </a:r>
            <a:r>
              <a:rPr b="1" lang="en-GB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зра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38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риродни</a:t>
            </a:r>
            <a:r>
              <a:rPr b="1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звор</a:t>
            </a:r>
            <a:r>
              <a:rPr b="1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је</a:t>
            </a:r>
            <a:r>
              <a:rPr b="1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унце</a:t>
            </a:r>
            <a:r>
              <a:rPr b="1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138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Вештачки</a:t>
            </a:r>
            <a:r>
              <a:rPr b="1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звори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01456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Лампа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а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ијалицом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од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150 - 1500 W,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чије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у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пирале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направљене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од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волфрама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ли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тунгстрена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Бело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сијање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око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3000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Ц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емитује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кратке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раке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велике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топлотне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енергије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01456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Sollux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"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ламп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01456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Грејачи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а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рефлектор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01456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ветлосне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купк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13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13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Физиолошки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ефекат</a:t>
            </a:r>
            <a:r>
              <a:rPr b="0" lang="en-US" sz="4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И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дорнос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ра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0,5 - 10 </a:t>
            </a:r>
            <a:r>
              <a:rPr b="0" lang="sr-C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м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псорб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ж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ткожн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ткив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убљ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тавље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рга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тки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агу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е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Haed-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в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о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Локал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шт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ак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рите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хомоге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ста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дма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игментац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г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мењ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Терапијска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дејства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И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налгетск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азмолитич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офичк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нула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нтиедематозн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333399"/>
                </a:solidFill>
                <a:latin typeface="Calibri"/>
                <a:ea typeface="Times New Roman"/>
              </a:rPr>
              <a:t>Методика</a:t>
            </a:r>
            <a:r>
              <a:rPr b="1" lang="en-US" sz="4000" spc="-1" strike="noStrike">
                <a:solidFill>
                  <a:srgbClr val="333399"/>
                </a:solidFill>
                <a:latin typeface="Calibri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333399"/>
                </a:solidFill>
                <a:latin typeface="Calibri"/>
                <a:ea typeface="Times New Roman"/>
              </a:rPr>
              <a:t>примене</a:t>
            </a:r>
            <a:r>
              <a:rPr b="1" lang="en-US" sz="4000" spc="-1" strike="noStrike">
                <a:solidFill>
                  <a:srgbClr val="333399"/>
                </a:solidFill>
                <a:latin typeface="Calibri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333399"/>
                </a:solidFill>
                <a:latin typeface="Calibri"/>
                <a:ea typeface="Times New Roman"/>
              </a:rPr>
              <a:t>ИР</a:t>
            </a:r>
            <a:r>
              <a:rPr b="1" lang="en-US" sz="4000" spc="-1" strike="noStrike">
                <a:solidFill>
                  <a:srgbClr val="333399"/>
                </a:solidFill>
                <a:latin typeface="Calibri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333399"/>
                </a:solidFill>
                <a:latin typeface="Calibri"/>
                <a:ea typeface="Times New Roman"/>
              </a:rPr>
              <a:t>зрака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ај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рачењ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до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30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и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10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на у сериј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тој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во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рачењ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дређ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нов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убјектив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ећаја пацијен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гао од 90 степен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3T15:36:45Z</dcterms:created>
  <dc:creator>WIN98SE</dc:creator>
  <dc:description/>
  <dc:language>en-US</dc:language>
  <cp:lastModifiedBy>Info</cp:lastModifiedBy>
  <dcterms:modified xsi:type="dcterms:W3CDTF">2020-10-01T14:41:46Z</dcterms:modified>
  <cp:revision>35</cp:revision>
  <dc:subject/>
  <dc:title>Fototerapija  </dc:title>
</cp:coreProperties>
</file>